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BA2-954B-4FFB-ADB0-426B7147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701-4D48-49B4-837B-3A13A72A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29D-63A4-4FFF-8C50-A976A9FF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C1E-40FD-42C3-BA08-B614BABF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75A-2149-4C09-AD82-80A39F43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416-198B-45E0-8F21-7F4841E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B93-8625-4AFE-ABDB-104AB1E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ECD-DF97-4078-A347-96905B6E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D88-5B85-4EC2-A55A-07281CA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680-B14E-4ADA-88C3-4EB624C6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226-FFFF-45D7-8DDD-52E1EFE8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B42-81BB-47D8-A022-C6A0842B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CDD4-EB8D-46A4-9E65-031BF0C1CC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139760" y="1238400"/>
            <a:ext cx="7120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Наш  девиз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Ученику – пятёрки, учителю – радость!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 rot="21327600">
            <a:off x="3863520" y="4857480"/>
            <a:ext cx="1287720" cy="153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 rot="20998800">
            <a:off x="1257120" y="4227480"/>
            <a:ext cx="1287360" cy="153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 rot="1074000">
            <a:off x="6395760" y="4485960"/>
            <a:ext cx="12873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1979640" y="581040"/>
            <a:ext cx="52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БОУ «Мамадышская школа-интернат» учатся самые спортивные ребята города, республики, и даже Росси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https://edu.tatar.ru/upload/organization/1324.jpg"/>
          <p:cNvPicPr/>
          <p:nvPr/>
        </p:nvPicPr>
        <p:blipFill>
          <a:blip r:embed="rId1"/>
          <a:stretch/>
        </p:blipFill>
        <p:spPr>
          <a:xfrm>
            <a:off x="2965320" y="2224080"/>
            <a:ext cx="3054600" cy="1971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s://edu.tatar.ru/upload/gallery_photo/1084529.JPG"/>
          <p:cNvPicPr/>
          <p:nvPr/>
        </p:nvPicPr>
        <p:blipFill>
          <a:blip r:embed="rId2"/>
          <a:stretch/>
        </p:blipFill>
        <p:spPr>
          <a:xfrm>
            <a:off x="227160" y="3027240"/>
            <a:ext cx="2519280" cy="167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ttps://edu.tatar.ru/upload/gallery_photo/1244523.JPG"/>
          <p:cNvPicPr/>
          <p:nvPr/>
        </p:nvPicPr>
        <p:blipFill>
          <a:blip r:embed="rId3"/>
          <a:stretch/>
        </p:blipFill>
        <p:spPr>
          <a:xfrm>
            <a:off x="6251400" y="3137040"/>
            <a:ext cx="2525760" cy="1679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https://edu.tatar.ru/upload/gallery_photo/661540.jpg"/>
          <p:cNvPicPr/>
          <p:nvPr/>
        </p:nvPicPr>
        <p:blipFill>
          <a:blip r:embed="rId4"/>
          <a:stretch/>
        </p:blipFill>
        <p:spPr>
          <a:xfrm>
            <a:off x="3111480" y="4597560"/>
            <a:ext cx="2720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920880" y="690480"/>
            <a:ext cx="6827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Вы доставили мне радост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 rot="21361800">
            <a:off x="847800" y="3402000"/>
            <a:ext cx="1287360" cy="1531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 rot="1129200">
            <a:off x="2666520" y="4216320"/>
            <a:ext cx="1287720" cy="1532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3"/>
          <a:stretch/>
        </p:blipFill>
        <p:spPr>
          <a:xfrm rot="21295800">
            <a:off x="5038560" y="4468320"/>
            <a:ext cx="1287720" cy="1532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4"/>
          <a:stretch/>
        </p:blipFill>
        <p:spPr>
          <a:xfrm rot="969600">
            <a:off x="6908760" y="3428640"/>
            <a:ext cx="12873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5680" y="1534680"/>
            <a:ext cx="3468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ложные слова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55120" y="24066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ва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коп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опад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ощехранилище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52400" y="1566720"/>
            <a:ext cx="35053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36680" y="23702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пом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ртзал 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С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6"/>
          <p:cNvSpPr/>
          <p:nvPr/>
        </p:nvSpPr>
        <p:spPr>
          <a:xfrm>
            <a:off x="701640" y="2041560"/>
            <a:ext cx="806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пом  -  старший помощ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зал – спортивный 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У - профессионально-техническое уч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С – атомная электрическая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482760" y="43488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а, образованные соединением частей  слов, называют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ожносокращён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97320" y="3940200"/>
            <a:ext cx="685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ый руководитель 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ая одежда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ушно-десантные войска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льный универсальный магази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409680" y="690480"/>
            <a:ext cx="84344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е длинное сложносокращённое слово в Росс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оит из 55 символ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"НИИОМТПЛАБОПАРМБЕТЖЕЛБЕТРАБСБОРМОНИМОНКОНОТДТЕХСТРОЙМОНТ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"Кратком словаре советской терминологии" расшифровывается как: "Hаучно-исследовательская лаборатория операций по армированию бетона и железобетонных работ по сооружению сборно-монолитных и монолитных конструкций отдела технологии строительно-монтажного управления" Академии строительства и архитектуры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687680" y="1712880"/>
            <a:ext cx="5619600" cy="42148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9"/>
          <p:cNvSpPr/>
          <p:nvPr/>
        </p:nvSpPr>
        <p:spPr>
          <a:xfrm>
            <a:off x="957240" y="654120"/>
            <a:ext cx="70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 Мамадыш, 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724040" y="2698920"/>
            <a:ext cx="5610240" cy="3565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1103400" y="763560"/>
            <a:ext cx="722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дании администрации находится исполком Мамадышского муниципального района, сотрудники которого ведут работу по социально-экономическому развитию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2"/>
          <p:cNvSpPr/>
          <p:nvPr/>
        </p:nvSpPr>
        <p:spPr>
          <a:xfrm>
            <a:off x="1650960" y="617400"/>
            <a:ext cx="58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алеко друг от друга расположены здания сбербанков г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бербанк России» и «Ак Барс Бан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1\Desktop\Мамадыш фотки\2612389.jpg"/>
          <p:cNvPicPr/>
          <p:nvPr/>
        </p:nvPicPr>
        <p:blipFill>
          <a:blip r:embed="rId1"/>
          <a:stretch/>
        </p:blipFill>
        <p:spPr>
          <a:xfrm>
            <a:off x="4924440" y="2187720"/>
            <a:ext cx="3749760" cy="284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1\Desktop\Мамадыш фотки\9147407.jpg"/>
          <p:cNvPicPr/>
          <p:nvPr/>
        </p:nvPicPr>
        <p:blipFill>
          <a:blip r:embed="rId2"/>
          <a:stretch/>
        </p:blipFill>
        <p:spPr>
          <a:xfrm>
            <a:off x="519120" y="2187720"/>
            <a:ext cx="3797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162160" y="2552760"/>
            <a:ext cx="5045040" cy="37828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336600" y="544680"/>
            <a:ext cx="836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и направлениями деятельности Отдела МВД России по Мамадышскому району являются предупреждение и пресечение преступлений и правонарушений, выявление и раскрытие преступлений,  охрана имущества и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650960" y="2917800"/>
            <a:ext cx="6070680" cy="31035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847800" y="800280"/>
            <a:ext cx="78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мадышская ЦРБ является старей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ицей нашей республики, самое раннее упоминание о которой датируется 1825 год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работает квалифицированный, внимательный и чуткий по отношению к пациентам медперсо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1</cp:lastModifiedBy>
  <dcterms:modified xsi:type="dcterms:W3CDTF">2016-12-13T18:43:38Z</dcterms:modified>
  <cp:revision>66</cp:revision>
  <dc:subject/>
  <dc:title>Слайд 1</dc:title>
</cp:coreProperties>
</file>